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A62-5BA6-48C2-8471-C0DE1C93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162-0D29-46BA-AF70-4BC1BBBF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FB1-66DC-4208-8BBD-8E94641A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67A-03AC-4E6D-B548-5B40159E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9DD52-E422-4E26-9B09-78223453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FC599-79CF-4EF6-A344-7EB29A8F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5756A-B4AE-44BA-AA8D-1E0821EA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043DB-8127-4624-9277-9EA8B404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BFBE9-23FF-4061-8F1E-04065F7E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6E54F-D029-4589-AFB6-7963EBF5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A9A9C-E8D2-4072-B560-9AEC2676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FE0-C978-4841-913D-31B2936D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5634D-0978-4844-8379-D787A10F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A2B77-4EB5-4AE4-B2E7-B2DEDAA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00C68-69F8-4305-B5D7-D8A528FB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51A7B-3858-4BCB-AC6A-F2D39CE8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07BD-D605-4381-B1EC-481BDEBB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DB3-F3D1-4B16-8DEB-60D1AA14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C8A-CAE3-4423-A6A7-AC69248C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A5E-6015-4982-98E6-614D29C8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94C-B820-4CB7-815C-C750EFB2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4CE-CE0D-4654-B8ED-792E76C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EE9-7ABF-469E-92EF-E8247D8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FBE-57FD-49E8-8D56-586D028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13BE-1765-4857-8A4D-73740BBFC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C19B-4F1B-42A6-AD78-C7ABA2EB18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6.jpeg"/><Relationship Id="rId6" Type="http://schemas.openxmlformats.org/officeDocument/2006/relationships/image" Target="../media/image20.jpeg"/><Relationship Id="rId7" Type="http://schemas.openxmlformats.org/officeDocument/2006/relationships/image" Target="../media/image25.jpeg"/><Relationship Id="rId8" Type="http://schemas.openxmlformats.org/officeDocument/2006/relationships/image" Target="../media/image22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6.jpeg"/><Relationship Id="rId5" Type="http://schemas.openxmlformats.org/officeDocument/2006/relationships/image" Target="../media/image23.jpeg"/><Relationship Id="rId6" Type="http://schemas.openxmlformats.org/officeDocument/2006/relationships/image" Target="../media/image25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6.jpeg"/><Relationship Id="rId4" Type="http://schemas.openxmlformats.org/officeDocument/2006/relationships/image" Target="../media/image23.jpeg"/><Relationship Id="rId5" Type="http://schemas.openxmlformats.org/officeDocument/2006/relationships/image" Target="../media/image20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33300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Lesson 8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tter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50990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Play a game: What’s miss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内容占位符 3" descr="u=1223758065,2523621559&amp;fm=52&amp;gp=0.jpg"/>
          <p:cNvPicPr/>
          <p:nvPr/>
        </p:nvPicPr>
        <p:blipFill>
          <a:blip r:embed="rId2"/>
          <a:stretch/>
        </p:blipFill>
        <p:spPr>
          <a:xfrm>
            <a:off x="857160" y="1944720"/>
            <a:ext cx="15717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" descr="u=2002946973,993137017&amp;fm=51&amp;gp=0.jpg"/>
          <p:cNvPicPr/>
          <p:nvPr/>
        </p:nvPicPr>
        <p:blipFill>
          <a:blip r:embed="rId3"/>
          <a:stretch/>
        </p:blipFill>
        <p:spPr>
          <a:xfrm>
            <a:off x="2928960" y="185724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6" descr="u=198856026,1362324775&amp;fm=23&amp;gp=0.jpg"/>
          <p:cNvPicPr/>
          <p:nvPr/>
        </p:nvPicPr>
        <p:blipFill>
          <a:blip r:embed="rId4"/>
          <a:stretch/>
        </p:blipFill>
        <p:spPr>
          <a:xfrm>
            <a:off x="4643280" y="1571760"/>
            <a:ext cx="1143000" cy="20714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7" descr="u=3730467838,326652304&amp;fm=23&amp;gp=0.jpg"/>
          <p:cNvPicPr/>
          <p:nvPr/>
        </p:nvPicPr>
        <p:blipFill>
          <a:blip r:embed="rId5"/>
          <a:stretch/>
        </p:blipFill>
        <p:spPr>
          <a:xfrm>
            <a:off x="785880" y="4429080"/>
            <a:ext cx="1214280" cy="15238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9" descr="u=2516574750,2995763165&amp;fm=51&amp;gp=0.jpg"/>
          <p:cNvPicPr/>
          <p:nvPr/>
        </p:nvPicPr>
        <p:blipFill>
          <a:blip r:embed="rId6"/>
          <a:stretch/>
        </p:blipFill>
        <p:spPr>
          <a:xfrm>
            <a:off x="5500800" y="4357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0" descr="u=63254826,2699210108&amp;fm=52&amp;gp=0.jpg"/>
          <p:cNvPicPr/>
          <p:nvPr/>
        </p:nvPicPr>
        <p:blipFill>
          <a:blip r:embed="rId7"/>
          <a:stretch/>
        </p:blipFill>
        <p:spPr>
          <a:xfrm>
            <a:off x="3786120" y="4500720"/>
            <a:ext cx="1500120" cy="14666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u=919641761,1427816476&amp;fm=51&amp;gp=0.jpg"/>
          <p:cNvPicPr/>
          <p:nvPr/>
        </p:nvPicPr>
        <p:blipFill>
          <a:blip r:embed="rId8"/>
          <a:stretch/>
        </p:blipFill>
        <p:spPr>
          <a:xfrm>
            <a:off x="6286680" y="2000160"/>
            <a:ext cx="1618920" cy="16002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u=536927569,3863298031&amp;fm=23&amp;gp=0.jpg"/>
          <p:cNvPicPr/>
          <p:nvPr/>
        </p:nvPicPr>
        <p:blipFill>
          <a:blip r:embed="rId9"/>
          <a:stretch/>
        </p:blipFill>
        <p:spPr>
          <a:xfrm>
            <a:off x="7429680" y="4214880"/>
            <a:ext cx="1143000" cy="17143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3" descr="u=1445793302,3451484911&amp;fm=51&amp;gp=0.jpg"/>
          <p:cNvPicPr/>
          <p:nvPr/>
        </p:nvPicPr>
        <p:blipFill>
          <a:blip r:embed="rId10"/>
          <a:stretch/>
        </p:blipFill>
        <p:spPr>
          <a:xfrm>
            <a:off x="2286000" y="4357800"/>
            <a:ext cx="161928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内容占位符 3" descr="u=1223758065,2523621559&amp;fm=52&amp;gp=0.jpg"/>
          <p:cNvPicPr/>
          <p:nvPr/>
        </p:nvPicPr>
        <p:blipFill>
          <a:blip r:embed="rId2"/>
          <a:stretch/>
        </p:blipFill>
        <p:spPr>
          <a:xfrm>
            <a:off x="428760" y="785880"/>
            <a:ext cx="1571400" cy="20955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u=2002946973,993137017&amp;fm=51&amp;gp=0.jpg"/>
          <p:cNvPicPr/>
          <p:nvPr/>
        </p:nvPicPr>
        <p:blipFill>
          <a:blip r:embed="rId3"/>
          <a:stretch/>
        </p:blipFill>
        <p:spPr>
          <a:xfrm>
            <a:off x="2786040" y="1071720"/>
            <a:ext cx="1219320" cy="16189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" descr="u=198856026,1362324775&amp;fm=23&amp;gp=0.jpg"/>
          <p:cNvPicPr/>
          <p:nvPr/>
        </p:nvPicPr>
        <p:blipFill>
          <a:blip r:embed="rId4"/>
          <a:stretch/>
        </p:blipFill>
        <p:spPr>
          <a:xfrm>
            <a:off x="4786200" y="785880"/>
            <a:ext cx="1143000" cy="20718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6" descr="u=2241758497,2874299169&amp;fm=23&amp;gp=0.jpg"/>
          <p:cNvPicPr/>
          <p:nvPr/>
        </p:nvPicPr>
        <p:blipFill>
          <a:blip r:embed="rId5"/>
          <a:stretch/>
        </p:blipFill>
        <p:spPr>
          <a:xfrm>
            <a:off x="6643800" y="857160"/>
            <a:ext cx="176184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7" descr="u=3730467838,326652304&amp;fm=23&amp;gp=0.jpg"/>
          <p:cNvPicPr/>
          <p:nvPr/>
        </p:nvPicPr>
        <p:blipFill>
          <a:blip r:embed="rId6"/>
          <a:stretch/>
        </p:blipFill>
        <p:spPr>
          <a:xfrm>
            <a:off x="714240" y="3857760"/>
            <a:ext cx="121464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8" descr="u=1445793302,3451484911&amp;fm=51&amp;gp=0.jpg"/>
          <p:cNvPicPr/>
          <p:nvPr/>
        </p:nvPicPr>
        <p:blipFill>
          <a:blip r:embed="rId7"/>
          <a:stretch/>
        </p:blipFill>
        <p:spPr>
          <a:xfrm>
            <a:off x="2286000" y="38577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9" descr="u=63254826,2699210108&amp;fm=52&amp;gp=0.jpg"/>
          <p:cNvPicPr/>
          <p:nvPr/>
        </p:nvPicPr>
        <p:blipFill>
          <a:blip r:embed="rId8"/>
          <a:stretch/>
        </p:blipFill>
        <p:spPr>
          <a:xfrm>
            <a:off x="4071960" y="3857760"/>
            <a:ext cx="1500120" cy="14666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0" descr="u=2516574750,2995763165&amp;fm=51&amp;gp=0.jpg"/>
          <p:cNvPicPr/>
          <p:nvPr/>
        </p:nvPicPr>
        <p:blipFill>
          <a:blip r:embed="rId9"/>
          <a:stretch/>
        </p:blipFill>
        <p:spPr>
          <a:xfrm>
            <a:off x="6215040" y="371484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内容占位符 3" descr="u=1223758065,2523621559&amp;fm=52&amp;gp=0.jpg"/>
          <p:cNvPicPr/>
          <p:nvPr/>
        </p:nvPicPr>
        <p:blipFill>
          <a:blip r:embed="rId2"/>
          <a:stretch/>
        </p:blipFill>
        <p:spPr>
          <a:xfrm>
            <a:off x="928800" y="571680"/>
            <a:ext cx="1571400" cy="20952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" descr="u=198856026,1362324775&amp;fm=23&amp;gp=0.jpg"/>
          <p:cNvPicPr/>
          <p:nvPr/>
        </p:nvPicPr>
        <p:blipFill>
          <a:blip r:embed="rId3"/>
          <a:stretch/>
        </p:blipFill>
        <p:spPr>
          <a:xfrm>
            <a:off x="3429000" y="714240"/>
            <a:ext cx="1571760" cy="20718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u=2241758497,2874299169&amp;fm=23&amp;gp=0.jpg"/>
          <p:cNvPicPr/>
          <p:nvPr/>
        </p:nvPicPr>
        <p:blipFill>
          <a:blip r:embed="rId4"/>
          <a:stretch/>
        </p:blipFill>
        <p:spPr>
          <a:xfrm>
            <a:off x="5786280" y="714240"/>
            <a:ext cx="17622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6" descr="u=919641761,1427816476&amp;fm=51&amp;gp=0.jpg"/>
          <p:cNvPicPr/>
          <p:nvPr/>
        </p:nvPicPr>
        <p:blipFill>
          <a:blip r:embed="rId5"/>
          <a:stretch/>
        </p:blipFill>
        <p:spPr>
          <a:xfrm>
            <a:off x="857160" y="3643200"/>
            <a:ext cx="161928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7" descr="u=1445793302,3451484911&amp;fm=51&amp;gp=0.jpg"/>
          <p:cNvPicPr/>
          <p:nvPr/>
        </p:nvPicPr>
        <p:blipFill>
          <a:blip r:embed="rId6"/>
          <a:stretch/>
        </p:blipFill>
        <p:spPr>
          <a:xfrm>
            <a:off x="3857760" y="378612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u=2516574750,2995763165&amp;fm=51&amp;gp=0.jpg"/>
          <p:cNvPicPr/>
          <p:nvPr/>
        </p:nvPicPr>
        <p:blipFill>
          <a:blip r:embed="rId7"/>
          <a:stretch/>
        </p:blipFill>
        <p:spPr>
          <a:xfrm>
            <a:off x="6072120" y="37861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内容占位符 3" descr="u=2002946973,993137017&amp;fm=51&amp;gp=0.jpg"/>
          <p:cNvPicPr/>
          <p:nvPr/>
        </p:nvPicPr>
        <p:blipFill>
          <a:blip r:embed="rId2"/>
          <a:stretch/>
        </p:blipFill>
        <p:spPr>
          <a:xfrm>
            <a:off x="1714680" y="857160"/>
            <a:ext cx="1647720" cy="2000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4" descr="u=2241758497,2874299169&amp;fm=23&amp;gp=0.jpg"/>
          <p:cNvPicPr/>
          <p:nvPr/>
        </p:nvPicPr>
        <p:blipFill>
          <a:blip r:embed="rId3"/>
          <a:stretch/>
        </p:blipFill>
        <p:spPr>
          <a:xfrm>
            <a:off x="4857840" y="857160"/>
            <a:ext cx="1762200" cy="20289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" descr="u=919641761,1427816476&amp;fm=51&amp;gp=0.jpg"/>
          <p:cNvPicPr/>
          <p:nvPr/>
        </p:nvPicPr>
        <p:blipFill>
          <a:blip r:embed="rId4"/>
          <a:stretch/>
        </p:blipFill>
        <p:spPr>
          <a:xfrm>
            <a:off x="857160" y="3643200"/>
            <a:ext cx="161928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u=3730467838,326652304&amp;fm=23&amp;gp=0.jpg"/>
          <p:cNvPicPr/>
          <p:nvPr/>
        </p:nvPicPr>
        <p:blipFill>
          <a:blip r:embed="rId5"/>
          <a:stretch/>
        </p:blipFill>
        <p:spPr>
          <a:xfrm>
            <a:off x="3429000" y="392904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7" descr="u=536927569,3863298031&amp;fm=23&amp;gp=0.jpg"/>
          <p:cNvPicPr/>
          <p:nvPr/>
        </p:nvPicPr>
        <p:blipFill>
          <a:blip r:embed="rId6"/>
          <a:stretch/>
        </p:blipFill>
        <p:spPr>
          <a:xfrm>
            <a:off x="6500880" y="3714840"/>
            <a:ext cx="20718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Look and mat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A   D   F    I     E    H     J    G    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f    b    e   h     j     a     d    i     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esson 8: Lett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0000"/>
                </a:solidFill>
                <a:latin typeface="Tahoma"/>
              </a:rPr>
              <a:t>Let</a:t>
            </a:r>
            <a:r>
              <a:rPr b="0" lang="en-US" sz="8800" spc="-1" strike="noStrike">
                <a:solidFill>
                  <a:srgbClr val="800000"/>
                </a:solidFill>
                <a:latin typeface="Arial"/>
              </a:rPr>
              <a:t>’</a:t>
            </a:r>
            <a:r>
              <a:rPr b="0" lang="en-US" sz="8800" spc="-1" strike="noStrike">
                <a:solidFill>
                  <a:srgbClr val="800000"/>
                </a:solidFill>
                <a:latin typeface="Tahoma"/>
              </a:rPr>
              <a:t>s  sing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. &lt;Find  a  Friend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. &lt;ABC  song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Music"/>
          <p:cNvSpPr/>
          <p:nvPr/>
        </p:nvSpPr>
        <p:spPr>
          <a:xfrm>
            <a:off x="6084720" y="2708280"/>
            <a:ext cx="615960" cy="720720"/>
          </a:xfrm>
          <a:custGeom>
            <a:avLst/>
            <a:gdLst>
              <a:gd name="textAreaLeft" fmla="*/ 227520 w 615960"/>
              <a:gd name="textAreaRight" fmla="*/ 597240 w 615960"/>
              <a:gd name="textAreaTop" fmla="*/ 30600 h 720720"/>
              <a:gd name="textAreaBottom" fmla="*/ 178560 h 720720"/>
            </a:gdLst>
            <a:ahLst/>
            <a:rect l="textAreaLeft" t="textAreaTop" r="textAreaRight" b="textAreaBottom"/>
            <a:pathLst>
              <a:path w="21683" h="21646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Music"/>
          <p:cNvSpPr/>
          <p:nvPr/>
        </p:nvSpPr>
        <p:spPr>
          <a:xfrm>
            <a:off x="5148360" y="3716280"/>
            <a:ext cx="615960" cy="720720"/>
          </a:xfrm>
          <a:custGeom>
            <a:avLst/>
            <a:gdLst>
              <a:gd name="textAreaLeft" fmla="*/ 227520 w 615960"/>
              <a:gd name="textAreaRight" fmla="*/ 597240 w 615960"/>
              <a:gd name="textAreaTop" fmla="*/ 30600 h 720720"/>
              <a:gd name="textAreaBottom" fmla="*/ 178560 h 720720"/>
            </a:gdLst>
            <a:ahLst/>
            <a:rect l="textAreaLeft" t="textAreaTop" r="textAreaRight" b="textAreaBottom"/>
            <a:pathLst>
              <a:path w="21683" h="21646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C:\Users\LiuYanhua\AppData\Local\Microsoft\Windows\Temporary Internet Files\Content.IE5\9EK9JNWU\MC900432548[2].png"/>
          <p:cNvPicPr/>
          <p:nvPr/>
        </p:nvPicPr>
        <p:blipFill>
          <a:blip r:embed="rId2"/>
          <a:stretch/>
        </p:blipFill>
        <p:spPr>
          <a:xfrm>
            <a:off x="755640" y="1413000"/>
            <a:ext cx="80028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LiuYanhua\AppData\Local\Microsoft\Windows\Temporary Internet Files\Content.IE5\9EK9JNWU\MC900432548[2].png"/>
          <p:cNvPicPr/>
          <p:nvPr/>
        </p:nvPicPr>
        <p:blipFill>
          <a:blip r:embed="rId3"/>
          <a:stretch/>
        </p:blipFill>
        <p:spPr>
          <a:xfrm>
            <a:off x="7667640" y="2205000"/>
            <a:ext cx="799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hoverImg" descr="u=2757821389,29471540&amp;fm=23&amp;gp=0"/>
          <p:cNvPicPr/>
          <p:nvPr/>
        </p:nvPicPr>
        <p:blipFill>
          <a:blip r:embed="rId2"/>
          <a:stretch/>
        </p:blipFill>
        <p:spPr>
          <a:xfrm>
            <a:off x="2050920" y="3500280"/>
            <a:ext cx="4465800" cy="294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260280"/>
            <a:ext cx="4032360" cy="3097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788000" y="620640"/>
            <a:ext cx="3742560" cy="1799640"/>
            <a:chOff x="4788000" y="620640"/>
            <a:chExt cx="3742560" cy="1799640"/>
          </a:xfrm>
        </p:grpSpPr>
        <p:sp>
          <p:nvSpPr>
            <p:cNvPr id="97" name=""/>
            <p:cNvSpPr/>
            <p:nvPr/>
          </p:nvSpPr>
          <p:spPr>
            <a:xfrm>
              <a:off x="4788000" y="620640"/>
              <a:ext cx="37425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88000" y="1220760"/>
              <a:ext cx="37425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8000" y="1819800"/>
              <a:ext cx="37425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8000" y="2420280"/>
              <a:ext cx="37425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219640" y="692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ff"/>
                </a:solidFill>
                <a:latin typeface="Lucida Console"/>
                <a:ea typeface="PMingLiU-ExtB"/>
              </a:rPr>
              <a:t>egg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hoverImg" descr="u=4149451819,1214075835&amp;fm=23&amp;gp=0"/>
          <p:cNvPicPr/>
          <p:nvPr/>
        </p:nvPicPr>
        <p:blipFill>
          <a:blip r:embed="rId2"/>
          <a:stretch/>
        </p:blipFill>
        <p:spPr>
          <a:xfrm>
            <a:off x="4572000" y="2852640"/>
            <a:ext cx="3960720" cy="3403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0" y="190440"/>
            <a:ext cx="3349800" cy="2949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03640" y="692280"/>
            <a:ext cx="30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Monotype Corsiva"/>
                <a:ea typeface="PMingLiU-ExtB"/>
              </a:rPr>
              <a:t>fish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211640" y="692280"/>
            <a:ext cx="4752000" cy="1943640"/>
            <a:chOff x="4211640" y="692280"/>
            <a:chExt cx="4752000" cy="1943640"/>
          </a:xfrm>
        </p:grpSpPr>
        <p:sp>
          <p:nvSpPr>
            <p:cNvPr id="106" name=""/>
            <p:cNvSpPr/>
            <p:nvPr/>
          </p:nvSpPr>
          <p:spPr>
            <a:xfrm>
              <a:off x="4211640" y="692280"/>
              <a:ext cx="475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11640" y="1340640"/>
              <a:ext cx="475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11640" y="1987560"/>
              <a:ext cx="475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2635920"/>
              <a:ext cx="475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g_" descr="u=3813095053,2659220933&amp;fm=21&amp;gp=0"/>
          <p:cNvPicPr/>
          <p:nvPr/>
        </p:nvPicPr>
        <p:blipFill>
          <a:blip r:embed="rId2"/>
          <a:stretch/>
        </p:blipFill>
        <p:spPr>
          <a:xfrm>
            <a:off x="4500720" y="3213000"/>
            <a:ext cx="43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0" y="189000"/>
            <a:ext cx="3851280" cy="29509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788000" y="333360"/>
            <a:ext cx="3455280" cy="2014920"/>
            <a:chOff x="4788000" y="333360"/>
            <a:chExt cx="3455280" cy="2014920"/>
          </a:xfrm>
        </p:grpSpPr>
        <p:sp>
          <p:nvSpPr>
            <p:cNvPr id="113" name=""/>
            <p:cNvSpPr/>
            <p:nvPr/>
          </p:nvSpPr>
          <p:spPr>
            <a:xfrm>
              <a:off x="4788000" y="333360"/>
              <a:ext cx="3455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8000" y="1005480"/>
              <a:ext cx="3455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88000" y="1676160"/>
              <a:ext cx="3455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8000" y="2348280"/>
              <a:ext cx="3455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64000" y="476280"/>
            <a:ext cx="223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Microsoft Sans Serif"/>
              </a:rPr>
              <a:t>girl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g_" descr="u=2158767380,2143635832&amp;fm=59"/>
          <p:cNvPicPr/>
          <p:nvPr/>
        </p:nvPicPr>
        <p:blipFill>
          <a:blip r:embed="rId2"/>
          <a:stretch/>
        </p:blipFill>
        <p:spPr>
          <a:xfrm>
            <a:off x="4716360" y="3706920"/>
            <a:ext cx="4176720" cy="315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0" y="190440"/>
            <a:ext cx="3851280" cy="29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2720" y="83664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ff"/>
                </a:solidFill>
                <a:latin typeface="Monotype Corsiva"/>
              </a:rPr>
              <a:t>han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357800" y="766800"/>
            <a:ext cx="4750200" cy="1943640"/>
            <a:chOff x="4357800" y="766800"/>
            <a:chExt cx="4750200" cy="1943640"/>
          </a:xfrm>
        </p:grpSpPr>
        <p:sp>
          <p:nvSpPr>
            <p:cNvPr id="122" name=""/>
            <p:cNvSpPr/>
            <p:nvPr/>
          </p:nvSpPr>
          <p:spPr>
            <a:xfrm>
              <a:off x="4357800" y="766800"/>
              <a:ext cx="47502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57800" y="1415160"/>
              <a:ext cx="47502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7800" y="2062080"/>
              <a:ext cx="47502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57800" y="2710440"/>
              <a:ext cx="47502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hoverImg" descr="u=2437279712,2754501425&amp;fm=23&amp;gp=0"/>
          <p:cNvPicPr/>
          <p:nvPr/>
        </p:nvPicPr>
        <p:blipFill>
          <a:blip r:embed="rId2"/>
          <a:stretch/>
        </p:blipFill>
        <p:spPr>
          <a:xfrm>
            <a:off x="3925800" y="3573360"/>
            <a:ext cx="4608720" cy="305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166920" cy="27370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39640" y="477720"/>
            <a:ext cx="7991280" cy="2015280"/>
            <a:chOff x="539640" y="477720"/>
            <a:chExt cx="7991280" cy="2015280"/>
          </a:xfrm>
        </p:grpSpPr>
        <p:sp>
          <p:nvSpPr>
            <p:cNvPr id="129" name=""/>
            <p:cNvSpPr/>
            <p:nvPr/>
          </p:nvSpPr>
          <p:spPr>
            <a:xfrm>
              <a:off x="539640" y="477720"/>
              <a:ext cx="7991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9640" y="1149840"/>
              <a:ext cx="7991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9640" y="1820880"/>
              <a:ext cx="7991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2493000"/>
              <a:ext cx="7991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971640" y="549360"/>
            <a:ext cx="705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ff"/>
                </a:solidFill>
                <a:latin typeface="Monotype Corsiva"/>
              </a:rPr>
              <a:t>ice cream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hoverImg" descr="u=2491535566,1777490122&amp;fm=23&amp;gp=0"/>
          <p:cNvPicPr/>
          <p:nvPr/>
        </p:nvPicPr>
        <p:blipFill>
          <a:blip r:embed="rId2"/>
          <a:stretch/>
        </p:blipFill>
        <p:spPr>
          <a:xfrm>
            <a:off x="4246560" y="3400560"/>
            <a:ext cx="4897440" cy="345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708360" cy="3097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88000" y="69228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Monotype Corsiva"/>
              </a:rPr>
              <a:t>juic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995640" y="620640"/>
            <a:ext cx="4896360" cy="1943640"/>
            <a:chOff x="3995640" y="620640"/>
            <a:chExt cx="4896360" cy="1943640"/>
          </a:xfrm>
        </p:grpSpPr>
        <p:sp>
          <p:nvSpPr>
            <p:cNvPr id="138" name=""/>
            <p:cNvSpPr/>
            <p:nvPr/>
          </p:nvSpPr>
          <p:spPr>
            <a:xfrm>
              <a:off x="3995640" y="620640"/>
              <a:ext cx="4896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95640" y="1269000"/>
              <a:ext cx="4896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1915920"/>
              <a:ext cx="4896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95640" y="2564280"/>
              <a:ext cx="4896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51:45Z</dcterms:created>
  <dc:creator>USER</dc:creator>
  <dc:description/>
  <dc:language>en-US</dc:language>
  <cp:lastModifiedBy>Windows 用户</cp:lastModifiedBy>
  <dcterms:modified xsi:type="dcterms:W3CDTF">2014-10-17T00:29:59Z</dcterms:modified>
  <cp:revision>21</cp:revision>
  <dc:subject/>
  <dc:title>Unit 2  Friends  and  Colou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